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5807-EC48-440C-AC27-0A25FD2F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F95C-F764-4637-A26A-5BCB726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B0E7-BFE7-4C11-A09D-1677D47A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AB47-5A7A-44FB-A9EA-9A859330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9E7-AF60-4579-BE99-3BE1A066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731D-099C-48B3-B40E-35B9185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DA0-F2B0-41FA-BCE6-6833269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206-D8B0-4D91-8D2B-4D709789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AF95-A63B-49A9-8305-A31FDFE5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311-1E2F-4AF6-AA6A-3BF9192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605-AB95-4E74-90C7-D914FF1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83C8-31A5-43C8-99F1-27906EF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DAC-871B-4971-9ABB-B152552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912-CBEE-4679-A632-FE21F10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FCFE-1991-4F33-A8F3-30FB053A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7C4-AC6F-4380-97E1-BB621DB1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ED48-6EA0-4ADE-A971-44503D7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DDBD-967C-494F-B41D-809E8B20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CBE3-F3A7-4C5D-93CA-ED0B006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7C76-4057-4425-8C51-8368170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0A58-1470-40E8-8BFF-EABB288D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3777-3943-4B44-86FD-A0FFECD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682C-1EBC-4990-8CFD-37D613B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FE89-0E8E-439B-ADEC-6C2A46E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4238-E182-4C78-A317-B58955ECC6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F74D-A562-4DFE-A4FB-684C4AD8F6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cc"/>
                </a:solidFill>
                <a:latin typeface="Showcard Gothic"/>
              </a:rPr>
              <a:t>The American story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iner Hand ITC"/>
              </a:rPr>
              <a:t>By: Rondale Sal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ident George W. Bush speaks to the 2008 Republican National Convention via video lin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Bush-by-Video-GOP-Convention-2SEPT2008.jpg"/>
          <p:cNvPicPr/>
          <p:nvPr/>
        </p:nvPicPr>
        <p:blipFill>
          <a:blip r:embed="rId1"/>
          <a:stretch/>
        </p:blipFill>
        <p:spPr>
          <a:xfrm>
            <a:off x="5029200" y="2262240"/>
            <a:ext cx="4114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China as a World Power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ptember 27, 2008: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Shenzhou 7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, China's third manned space expedition, conducted the first spacewalk for its space progr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200px-Shenzhou_7_Launch,_Jiuquan_Stellite_Launch_Center,_PRChina.jpg"/>
          <p:cNvPicPr/>
          <p:nvPr/>
        </p:nvPicPr>
        <p:blipFill>
          <a:blip r:embed="rId1"/>
          <a:stretch/>
        </p:blipFill>
        <p:spPr>
          <a:xfrm>
            <a:off x="5181480" y="2133720"/>
            <a:ext cx="396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esidential Deb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nator John McCain and Senator Barack Obama debate in town hall style at Belmont University on October 7, 200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Obama-McCain-Belmont-Debate-7Oct2008.jpg"/>
          <p:cNvPicPr/>
          <p:nvPr/>
        </p:nvPicPr>
        <p:blipFill>
          <a:blip r:embed="rId1"/>
          <a:stretch/>
        </p:blipFill>
        <p:spPr>
          <a:xfrm>
            <a:off x="5448240" y="2209680"/>
            <a:ext cx="3695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cc"/>
                </a:solidFill>
                <a:latin typeface="Tahoma"/>
              </a:rPr>
              <a:t>Baseb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08 World Series: The Philadelphia Phillies Defeated the Tampa Bay Ray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2008-World-Series-Program-Philadelphia-Phillies-vs-Tampa-Bay-Rays.jpg"/>
          <p:cNvPicPr/>
          <p:nvPr/>
        </p:nvPicPr>
        <p:blipFill>
          <a:blip r:embed="rId1"/>
          <a:stretch/>
        </p:blipFill>
        <p:spPr>
          <a:xfrm>
            <a:off x="4876920" y="236232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ahoma"/>
              </a:rPr>
              <a:t>Barack Obama Sails to Victory</a:t>
            </a:r>
            <a:r>
              <a:rPr b="0" lang="en-US" sz="4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November 4, 2008: Senator Barack H. Obama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was elected President of the United Stat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obama-hope-193x300.jpg"/>
          <p:cNvPicPr/>
          <p:nvPr/>
        </p:nvPicPr>
        <p:blipFill>
          <a:blip r:embed="rId1"/>
          <a:stretch/>
        </p:blipFill>
        <p:spPr>
          <a:xfrm>
            <a:off x="5867280" y="1371600"/>
            <a:ext cx="327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The Presidency of Barack H. Obama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January 20, 2009: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Barack Obama became President of the United States of Americ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Barack Obama (Democrat), 44th American President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Years in Office: 2009-Pres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Barack-Obama-Portrait-First-Term.jpg"/>
          <p:cNvPicPr/>
          <p:nvPr/>
        </p:nvPicPr>
        <p:blipFill>
          <a:blip r:embed="rId1"/>
          <a:stretch/>
        </p:blipFill>
        <p:spPr>
          <a:xfrm>
            <a:off x="6172200" y="1981080"/>
            <a:ext cx="297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nited States Surgeon General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vember 3, 2009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irhope High Scho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uate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. Regina Benjam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came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rgeon-General of the United Sta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220px-Regina_Benjamin_official_portrait.jpg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iner Hand ITC"/>
              </a:rPr>
              <a:t>Mark Ingram</a:t>
            </a:r>
            <a:r>
              <a:rPr b="0" lang="en-US" sz="4200" spc="-1" strike="noStrike">
                <a:solidFill>
                  <a:srgbClr val="ffffcc"/>
                </a:solidFill>
                <a:latin typeface="Viner Hand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cember 12, 2009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abama's Mark Ingr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isman Troph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Mark-Ingram-Heisman-Trophy-2009.jpg"/>
          <p:cNvPicPr/>
          <p:nvPr/>
        </p:nvPicPr>
        <p:blipFill>
          <a:blip r:embed="rId1"/>
          <a:stretch/>
        </p:blipFill>
        <p:spPr>
          <a:xfrm>
            <a:off x="4648320" y="1905120"/>
            <a:ext cx="4495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ahoma"/>
              </a:rPr>
              <a:t>New Decade</a:t>
            </a:r>
            <a:r>
              <a:rPr b="0" lang="en-US" sz="4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38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nuary 1, 2010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beginning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w year and a new deca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ere celebrated 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ng Kong, Chin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2010-Hong-Kong-New-Year.jpg"/>
          <p:cNvPicPr/>
          <p:nvPr/>
        </p:nvPicPr>
        <p:blipFill>
          <a:blip r:embed="rId1"/>
          <a:stretch/>
        </p:blipFill>
        <p:spPr>
          <a:xfrm>
            <a:off x="5181480" y="1752480"/>
            <a:ext cx="3962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Surreal"/>
              </a:rPr>
              <a:t>Alabama Wins a BCS National Title</a:t>
            </a:r>
            <a:r>
              <a:rPr b="0" lang="en-US" sz="3800" spc="-1" strike="noStrike">
                <a:solidFill>
                  <a:srgbClr val="ffffcc"/>
                </a:solidFill>
                <a:latin typeface="Surre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7, 2010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rmer Foley High School star, Julio Jone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help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abam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ap off a perfect season and 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CS Championship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Julio-Jones-2010-BCS-National-Championship-Game_photo_medium.jpg"/>
          <p:cNvPicPr/>
          <p:nvPr/>
        </p:nvPicPr>
        <p:blipFill>
          <a:blip r:embed="rId1"/>
          <a:stretch/>
        </p:blipFill>
        <p:spPr>
          <a:xfrm>
            <a:off x="5095800" y="1828800"/>
            <a:ext cx="404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"Stocks tanked Wednesday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24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The first trading day of 2008, as oil and gold prices at record highs and a report showing contraction in the manufacturing sector raised worries about the threat of recession.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Showcard Gothic"/>
              </a:rPr>
              <a:t>State of the Union Address</a:t>
            </a:r>
            <a:r>
              <a:rPr b="0" lang="en-US" sz="4200" spc="-1" strike="noStrike">
                <a:solidFill>
                  <a:srgbClr val="ffffcc"/>
                </a:solidFill>
                <a:latin typeface="Showcard Gothi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27, 2010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President Obama gave his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State of the Unio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message to a joint-session of Congres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Obama-SOTU-27Jan2010-Biden-Pelosi.jpg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Snap ITC"/>
              </a:rPr>
              <a:t>Super Bowl XLIV:</a:t>
            </a:r>
            <a:r>
              <a:rPr b="0" lang="en-US" sz="4200" spc="-1" strike="noStrike">
                <a:solidFill>
                  <a:srgbClr val="cc0000"/>
                </a:solidFill>
                <a:latin typeface="Snap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DAT?! New February 7, 2010: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WHO Orleans Saints won Super Bowl XLIV, defeating the Indianapolis Colts, 31 to 17.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Super-Bowl-XLIV-Pierre-Thomas-7FEB2010.jpg"/>
          <p:cNvPicPr/>
          <p:nvPr/>
        </p:nvPicPr>
        <p:blipFill>
          <a:blip r:embed="rId1"/>
          <a:stretch/>
        </p:blipFill>
        <p:spPr>
          <a:xfrm>
            <a:off x="4800600" y="20574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Wint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February 12, 2010: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In the 2010 Winter Olympics held in Vancouver, Canada, the opening ceremony launched the ga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Vancouver-Olympics-Opening-Ceremony-12Feb2010.jpg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Aubu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10, 2011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ubur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apped off a perfect season to win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CS National Championship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AuburnSI.jpg"/>
          <p:cNvPicPr/>
          <p:nvPr/>
        </p:nvPicPr>
        <p:blipFill>
          <a:blip r:embed="rId1"/>
          <a:stretch/>
        </p:blipFill>
        <p:spPr>
          <a:xfrm>
            <a:off x="5715000" y="198108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China Acknowledged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ebruary 14, 2011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ina is acknowledged as the world's second largest economy behind the United Stat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5" descr="300px-Shanghaiviewpic1.jpg"/>
          <p:cNvPicPr/>
          <p:nvPr/>
        </p:nvPicPr>
        <p:blipFill>
          <a:blip r:embed="rId1"/>
          <a:stretch/>
        </p:blipFill>
        <p:spPr>
          <a:xfrm>
            <a:off x="5181480" y="190512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Snap ITC"/>
              </a:rPr>
              <a:t>The Killing of Osama Bin Laden</a:t>
            </a:r>
            <a:r>
              <a:rPr b="0" lang="en-US" sz="4200" spc="-1" strike="noStrike">
                <a:solidFill>
                  <a:srgbClr val="ffffcc"/>
                </a:solidFill>
                <a:latin typeface="Snap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May 1, 2011: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President Barack Obama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announced that a U.S. intelligence and military operation had found and killed Al Qeada leader,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Osama Bin Laden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P050111PS-0210.jpg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Barack Obama Starts Strong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0" y="1901880"/>
            <a:ext cx="7542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nuary 3, 2008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ator Barack Obama of Illin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n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owa Caucus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eat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ator Hillary Clint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ahoma"/>
              </a:rPr>
              <a:t>Ted Kennedy's Endorsement of Barack Obama</a:t>
            </a:r>
            <a:r>
              <a:rPr b="0" lang="en-US" sz="3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07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January 28, 2008: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In a move that enhanced the stature of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Barack Obama's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candidacy,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 Ted Kennedy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endorsed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Obama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instead of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Hillary Rodham Clinton.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Ted-Kennedy-Endorses-Barack-Obama-28Jan2008.jpg"/>
          <p:cNvPicPr/>
          <p:nvPr/>
        </p:nvPicPr>
        <p:blipFill>
          <a:blip r:embed="rId1"/>
          <a:stretch/>
        </p:blipFill>
        <p:spPr>
          <a:xfrm>
            <a:off x="5791320" y="2514600"/>
            <a:ext cx="3352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President of Russia</a:t>
            </a: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May 7, 2008: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Dmitry Medvedev became President of Russia. Vladimir Putin, in turn, became Prime Minister of Russia on May 8, 2008.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Medvedev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served a four year term, leaving office in May 201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Dmitry-Medvedev-President-of-Russia-7May2008-7May2012.jpg"/>
          <p:cNvPicPr/>
          <p:nvPr/>
        </p:nvPicPr>
        <p:blipFill>
          <a:blip r:embed="rId1"/>
          <a:stretch/>
        </p:blipFill>
        <p:spPr>
          <a:xfrm>
            <a:off x="5486400" y="21337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umm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ugust 8, 2008: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Th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eople's Republic of China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hosted the 2008 Summer Olympics. The opening ceremony was held on August 8th. The 2008 Summer Olympic games lasted until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ugust 24, 2008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Olympic-Rings-symbol.png"/>
          <p:cNvPicPr/>
          <p:nvPr/>
        </p:nvPicPr>
        <p:blipFill>
          <a:blip r:embed="rId1"/>
          <a:stretch/>
        </p:blipFill>
        <p:spPr>
          <a:xfrm>
            <a:off x="6095880" y="251460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umm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ina; Fireworks over the "Bird's Nest," the major Olympic Stadium in Beij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Beijing-China-8Aug2008-Olympics-opening-ceremony.jpg"/>
          <p:cNvPicPr/>
          <p:nvPr/>
        </p:nvPicPr>
        <p:blipFill>
          <a:blip r:embed="rId1"/>
          <a:stretch/>
        </p:blipFill>
        <p:spPr>
          <a:xfrm>
            <a:off x="4952880" y="21337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esumptive Democratic presidential nominee Barack Obama named Senator Joe Biden of Delaware as his vice presidential running m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Obama-Biden-Ticket-23AUG2008.jpg"/>
          <p:cNvPicPr/>
          <p:nvPr/>
        </p:nvPicPr>
        <p:blipFill>
          <a:blip r:embed="rId1"/>
          <a:stretch/>
        </p:blipFill>
        <p:spPr>
          <a:xfrm>
            <a:off x="5477040" y="2590920"/>
            <a:ext cx="3666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ichelle Obam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chelle Obama, wife of Senator Barack Obama, addresses the 2008 Democratic Convention in Denver, Colorad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Michelle-Obama-25Aug2008-Denver-Dem-Convention.jpg"/>
          <p:cNvPicPr/>
          <p:nvPr/>
        </p:nvPicPr>
        <p:blipFill>
          <a:blip r:embed="rId1"/>
          <a:stretch/>
        </p:blipFill>
        <p:spPr>
          <a:xfrm>
            <a:off x="5334120" y="1752480"/>
            <a:ext cx="3809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5:47:25Z</dcterms:created>
  <dc:creator>user</dc:creator>
  <dc:description/>
  <dc:language>en-US</dc:language>
  <cp:lastModifiedBy>Mark Leavins</cp:lastModifiedBy>
  <dcterms:modified xsi:type="dcterms:W3CDTF">2015-02-20T00:48:18Z</dcterms:modified>
  <cp:revision>5</cp:revision>
  <dc:subject/>
  <dc:title>"Stocks tanked Wednesday </dc:title>
</cp:coreProperties>
</file>